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58400" cy="77724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92560" y="345960"/>
            <a:ext cx="93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C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184560" y="345960"/>
            <a:ext cx="3122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TH MECHANIZED INFANTRY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833600" y="345960"/>
            <a:ext cx="1458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1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92560" y="727200"/>
            <a:ext cx="93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OR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5560" y="569880"/>
            <a:ext cx="2094120" cy="271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 CONTROL 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57440" y="727200"/>
            <a:ext cx="382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ACTIVITY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HQ, 3D BDE ARMOR, 77TH INF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9800" y="1079640"/>
            <a:ext cx="9118800" cy="5689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3680" y="19051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3680" y="23623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3680" y="28195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3680" y="32767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3680" y="377208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3680" y="429264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3680" y="477504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3680" y="529596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3680" y="58039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3680" y="629928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0560" y="1265400"/>
            <a:ext cx="72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2720" y="1265400"/>
            <a:ext cx="518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7240" y="1265400"/>
            <a:ext cx="9601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69440" y="1265400"/>
            <a:ext cx="7588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6400" y="1265400"/>
            <a:ext cx="105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45640" y="1265400"/>
            <a:ext cx="981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R/DC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/BL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76320" y="1265400"/>
            <a:ext cx="955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539200" y="1265400"/>
            <a:ext cx="804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A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5424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4784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1156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087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7000" y="21207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98520" y="2120760"/>
            <a:ext cx="687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OCT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96280" y="2120760"/>
            <a:ext cx="1025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ST QTR RD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84920" y="212076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56960" y="2120760"/>
            <a:ext cx="1329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ST QTR 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99320" y="1265400"/>
            <a:ext cx="11660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COMMIIT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071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42320" y="212076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2920" y="6997680"/>
            <a:ext cx="874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                           1                                                                                                            Jan 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92560" y="345960"/>
            <a:ext cx="93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C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4560" y="345960"/>
            <a:ext cx="3122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TH MECHANIZED INFANTRY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833600" y="345960"/>
            <a:ext cx="1458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1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2560" y="727200"/>
            <a:ext cx="93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OR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15560" y="569880"/>
            <a:ext cx="2094120" cy="271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 CONTROL 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57440" y="727200"/>
            <a:ext cx="382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ACTIVITY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HQ, 3D BDE ARMOR, 77TH INF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9800" y="1079640"/>
            <a:ext cx="9118800" cy="5689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3680" y="19051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3680" y="23623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3680" y="28195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3680" y="32767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3680" y="377208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429264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3680" y="477504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3680" y="529596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3680" y="58039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3680" y="629928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0560" y="1265400"/>
            <a:ext cx="72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22720" y="1265400"/>
            <a:ext cx="518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27240" y="1265400"/>
            <a:ext cx="9601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69440" y="1265400"/>
            <a:ext cx="7588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56400" y="1265400"/>
            <a:ext cx="105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45640" y="1265400"/>
            <a:ext cx="981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R/DC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/BL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76320" y="1265400"/>
            <a:ext cx="955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39200" y="1265400"/>
            <a:ext cx="804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A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5424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4784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1156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087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7000" y="21207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8520" y="2120760"/>
            <a:ext cx="72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OCT **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96280" y="2120760"/>
            <a:ext cx="1025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ST QTR RD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49640" y="2120760"/>
            <a:ext cx="81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56960" y="2120760"/>
            <a:ext cx="1329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ST QTR 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99320" y="1265400"/>
            <a:ext cx="11660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COMMIIT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071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3280" y="2120760"/>
            <a:ext cx="81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2920" y="6997680"/>
            <a:ext cx="874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                           2                                                                                                            Jan 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92560" y="345960"/>
            <a:ext cx="93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C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84560" y="345960"/>
            <a:ext cx="3122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TH MECHANIZED INFANTRY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33600" y="345960"/>
            <a:ext cx="1458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1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2560" y="727200"/>
            <a:ext cx="93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OR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15560" y="569880"/>
            <a:ext cx="2094120" cy="271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 CONTROL 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57440" y="727200"/>
            <a:ext cx="382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ACTIVITY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HQ, 3D BDE ARMOR, 77TH INF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9800" y="1079640"/>
            <a:ext cx="9118800" cy="5689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680" y="19051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3680" y="23623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3680" y="28195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3680" y="32767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3680" y="377208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3680" y="429264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3680" y="477504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3680" y="529596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3680" y="58039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3680" y="629928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0560" y="1265400"/>
            <a:ext cx="72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22720" y="1265400"/>
            <a:ext cx="518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1265400"/>
            <a:ext cx="9601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69440" y="1265400"/>
            <a:ext cx="7588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56400" y="1265400"/>
            <a:ext cx="105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5640" y="1265400"/>
            <a:ext cx="981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R/DC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/BL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76320" y="1265400"/>
            <a:ext cx="955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539200" y="1265400"/>
            <a:ext cx="804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A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5424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4784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1156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087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059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7000" y="21207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8520" y="2120760"/>
            <a:ext cx="687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OCT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96280" y="2120760"/>
            <a:ext cx="1025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ST QTR RD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67280" y="212076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5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56960" y="2120760"/>
            <a:ext cx="1329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ST QTR 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99320" y="1265400"/>
            <a:ext cx="11660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COMMIIT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071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18560" y="212076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5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2920" y="6997680"/>
            <a:ext cx="874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                           3                                                                                                            Jan 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92560" y="345960"/>
            <a:ext cx="93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C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84560" y="345960"/>
            <a:ext cx="3122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TH MECHANIZED INFANTRY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33600" y="345960"/>
            <a:ext cx="1458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1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2560" y="727200"/>
            <a:ext cx="93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OR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15560" y="569880"/>
            <a:ext cx="2094120" cy="271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 CONTROL 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57440" y="727200"/>
            <a:ext cx="382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ACTIVITY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HQ, 3D BDE ARMOR, 77TH INF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9800" y="1079640"/>
            <a:ext cx="9118800" cy="5689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3680" y="19051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3680" y="23623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3680" y="28195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3680" y="32767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3680" y="377208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3680" y="429264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3680" y="477504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3680" y="529596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3680" y="58039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3680" y="629928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0560" y="1265400"/>
            <a:ext cx="72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22720" y="1265400"/>
            <a:ext cx="518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27240" y="1265400"/>
            <a:ext cx="9601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9440" y="1265400"/>
            <a:ext cx="7588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56400" y="1265400"/>
            <a:ext cx="105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5640" y="1265400"/>
            <a:ext cx="981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R/DC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/BL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76320" y="1265400"/>
            <a:ext cx="955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539200" y="1265400"/>
            <a:ext cx="804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A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5424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4784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25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1156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087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059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7000" y="21207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8520" y="2120760"/>
            <a:ext cx="687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OCT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96280" y="2120760"/>
            <a:ext cx="1025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ST QTR RD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67280" y="212076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56960" y="2120760"/>
            <a:ext cx="1329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ST QTR 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99320" y="1265400"/>
            <a:ext cx="11660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COMMIIT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071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18560" y="212076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2920" y="6997680"/>
            <a:ext cx="874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                           4                                                                                                            Jan 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0T09:17:24Z</dcterms:created>
  <dc:creator>Soldier Support Institute</dc:creator>
  <dc:description/>
  <dc:language>en-US</dc:language>
  <cp:lastModifiedBy>Administrator</cp:lastModifiedBy>
  <cp:lastPrinted>2002-01-02T15:41:55Z</cp:lastPrinted>
  <dcterms:modified xsi:type="dcterms:W3CDTF">2005-01-05T23:10:53Z</dcterms:modified>
  <cp:revision>12</cp:revision>
  <dc:subject/>
  <dc:title>FUND CONTROL RECORD</dc:title>
</cp:coreProperties>
</file>